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4662-38DF-4DBE-AA00-DE8BEC854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3642-670A-4854-AD39-E2844791D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0715-7FB7-46FF-A680-EC5FE0B4F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6230-D4F4-4909-AFE3-B956FA9F5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F31AD-1F54-4843-9D91-DD935AF12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6ADDA-B3F1-442C-BF1A-5702149F1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67D14-91F0-4268-BD41-A3AC6FC83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853D5-4C3E-4DCC-91B4-A48BBC472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8817B-6D40-46A3-ABAF-E3073F5D5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B706F-ECB9-412F-8BE0-0B6D03922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B5EFD-E951-4489-8FD9-7D6908C6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074F-3607-4480-8645-919458223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E2497-5822-462E-B6F8-C960E3EA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35AAF-A37A-450F-8EC3-91B1E726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AC736-BC3A-438B-846D-B334461CB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14163-C1D2-4B8A-B890-9EC5E3DEA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34C66-2AB7-4AB9-ACE1-A6125729F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FE71-D48F-4989-B92A-BA93F23A3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6ABD-BA23-4D1E-97CF-B2AE2F3C1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D110-413C-443F-8579-5AACD8CF1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2A57-8201-4790-BF00-297CFCD45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4750-7ED8-4F7D-ABB8-B274E11A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1873-3A7A-44E4-86BE-4521639D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6D1C-92F7-4587-96E0-C2040556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04735-0F7E-4AA3-8A6F-A182953ADBDA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612D3795-9EF5-4DCD-B3F6-8D998C36F3D5}" type="datetime10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9:1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D6450-535E-491F-BF10-559163AAD3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F6935-37A5-48DF-8D74-9B6A6EDB56C6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8F26E56C-935C-43A3-82A4-44589E379D48}" type="datetime10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9:1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D90C5-246B-4B0F-8651-4842576E88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ulinet.hu/tart/fcikk/Kcu/0/32372/1" TargetMode="External"/><Relationship Id="rId2" Type="http://schemas.openxmlformats.org/officeDocument/2006/relationships/hyperlink" Target="http://www.sulinet.hu/tart/fcikk/Kcx/0/31819/1" TargetMode="External"/><Relationship Id="rId3" Type="http://schemas.openxmlformats.org/officeDocument/2006/relationships/hyperlink" Target="http://www.sulinet.hu/ikt/digitalis_pedagogia/matematika.html" TargetMode="External"/><Relationship Id="rId4" Type="http://schemas.openxmlformats.org/officeDocument/2006/relationships/hyperlink" Target="http://www.sulinet.hu/tart/cikk/Se/0/17763/1" TargetMode="External"/><Relationship Id="rId5" Type="http://schemas.openxmlformats.org/officeDocument/2006/relationships/hyperlink" Target="http://www.sulinet.hu/tart/fcikk/Kch/0/32487/1" TargetMode="External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yakg.u-szeged.hu/" TargetMode="External"/><Relationship Id="rId2" Type="http://schemas.openxmlformats.org/officeDocument/2006/relationships/hyperlink" Target="http://www.gyakg.u-szeged.hu/" TargetMode="External"/><Relationship Id="rId3" Type="http://schemas.openxmlformats.org/officeDocument/2006/relationships/hyperlink" Target="http://matematika.sulinet.hu/" TargetMode="External"/><Relationship Id="rId4" Type="http://schemas.openxmlformats.org/officeDocument/2006/relationships/hyperlink" Target="http://matematika.sulinet.hu/" TargetMode="External"/><Relationship Id="rId5" Type="http://schemas.openxmlformats.org/officeDocument/2006/relationships/hyperlink" Target="http://matematika.sulinet.hu/" TargetMode="External"/><Relationship Id="rId6" Type="http://schemas.openxmlformats.org/officeDocument/2006/relationships/hyperlink" Target="http://matematika.sulinet.hu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komal.hu/verseny/feladat.cgi?a=honap&amp;h=200711&amp;t=mat&amp;l=hu" TargetMode="External"/><Relationship Id="rId2" Type="http://schemas.openxmlformats.org/officeDocument/2006/relationships/hyperlink" Target="file:///b_4035(K&#246;MaL).dfw" TargetMode="External"/><Relationship Id="rId3" Type="http://schemas.openxmlformats.org/officeDocument/2006/relationships/hyperlink" Target="file:///b_4035(K&#246;MaL).dfw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komal.hu/verseny/feladat.cgi?a=honap&amp;h=200801&amp;t=mat&amp;l=hu" TargetMode="External"/><Relationship Id="rId2" Type="http://schemas.openxmlformats.org/officeDocument/2006/relationships/hyperlink" Target="file:///b_4057(K&#246;MaL).dfw" TargetMode="External"/><Relationship Id="rId3" Type="http://schemas.openxmlformats.org/officeDocument/2006/relationships/hyperlink" Target="file:///b_4057(K&#246;MaL).dfw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Mi%20a%20hat&#225;rozott%20integr&#225;l.dfw" TargetMode="External"/><Relationship Id="rId2" Type="http://schemas.openxmlformats.org/officeDocument/2006/relationships/hyperlink" Target="file:///Mi%20a%20hat&#225;rozott%20integr&#225;l.dfw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246;sszetett%20f&#252;ggv&#233;ny%20inverz%20f&#252;ggv&#233;ny.dfw" TargetMode="External"/><Relationship Id="rId2" Type="http://schemas.openxmlformats.org/officeDocument/2006/relationships/hyperlink" Target="file:///&#246;sszetett%20f&#252;ggv&#233;ny%20inverz%20f&#252;ggv&#233;ny.dfw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rekurzi&#243;.dfw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hiperbola_parabola_ellipszis.dfw" TargetMode="External"/><Relationship Id="rId2" Type="http://schemas.openxmlformats.org/officeDocument/2006/relationships/hyperlink" Target="file:///hiperbola_parabola_ellipszis.dfw" TargetMode="External"/><Relationship Id="rId3" Type="http://schemas.openxmlformats.org/officeDocument/2006/relationships/hyperlink" Target="file:///hiperbola_parabola_ellipszis.dfw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komal.hu/verseny/feladat.cgi?a=honap&amp;h=200704&amp;t=mat&amp;l=hu" TargetMode="External"/><Relationship Id="rId2" Type="http://schemas.openxmlformats.org/officeDocument/2006/relationships/hyperlink" Target="file:///b_4001.dfw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280" y="692280"/>
            <a:ext cx="777708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ffffb7"/>
                </a:solidFill>
                <a:latin typeface="Arial Black"/>
              </a:rPr>
              <a:t>A Derive program alkalmazási lehetőségei a matematika oktatásában</a:t>
            </a:r>
            <a:br>
              <a:rPr sz="4800"/>
            </a:b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A3EA1CA-D2B8-4820-8AF6-4490213B4CC7}" type="datetime8">
              <a:rPr lang="en-US"/>
              <a:t>07/31/26 19: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b7"/>
                </a:solidFill>
                <a:latin typeface="Arial Black"/>
              </a:rPr>
              <a:t>Derive-os oldalak az Interneten</a:t>
            </a:r>
            <a:r>
              <a:rPr b="1" lang="hu-H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125000"/>
            <a:ext cx="800748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Rekurziók Derive-val (http://www.sulinet.hu/tart/fcikk/Kcu/0/31262/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Véges összegek vizsgálata Derive-val (</a:t>
            </a:r>
            <a:r>
              <a:rPr b="0" lang="hu-HU" sz="24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://sulinet.hu/tart/fcikk/Kcu/0/32372/1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határozott integrál fogalmának előkészítése (</a:t>
            </a:r>
            <a:r>
              <a:rPr b="0" lang="hu-HU" sz="24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http://www.sulinet.hu/tart/fcikk/Kcx/0/31819/1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Digitális eszközök használata a matematika tantárgy oktatásában (</a:t>
            </a:r>
            <a:r>
              <a:rPr b="0" lang="hu-HU" sz="24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http://www.sulinet.hu/ikt/digitalis_pedagogia/matematika.html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Derive – egy program a matematika tanításához (</a:t>
            </a:r>
            <a:r>
              <a:rPr b="0" lang="hu-HU" sz="2400" spc="-1" strike="noStrike" u="sng">
                <a:solidFill>
                  <a:srgbClr val="99ff66"/>
                </a:solidFill>
                <a:uFillTx/>
                <a:latin typeface="Arial"/>
                <a:hlinkClick r:id="rId4"/>
              </a:rPr>
              <a:t>http://www.sulinet.hu/tart/cikk/Se/0/17763/1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Hogyan használható a számítógép a matematika feladatok megoldásában?. (</a:t>
            </a:r>
            <a:r>
              <a:rPr b="0" lang="hu-HU" sz="2400" spc="-1" strike="noStrike" u="sng">
                <a:solidFill>
                  <a:srgbClr val="99ff66"/>
                </a:solidFill>
                <a:uFillTx/>
                <a:latin typeface="Arial"/>
                <a:hlinkClick r:id="rId5"/>
              </a:rPr>
              <a:t>http://www.sulinet.hu/tart/fcikk/Kch/0/32487/1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Új Calculus Bt honlapja (http://www.calculus.hu/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7E7CF5-83FE-46B3-A298-1363C6387602}" type="datetime8">
              <a:rPr lang="en-US"/>
              <a:t>07/31/26 19: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11280" y="692280"/>
            <a:ext cx="80071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Köszönöm a figyelmet!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arcsay@gyakg.u-szeged.h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tematika@sulinet.h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arcsaytamas@gmail.h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5353B6-D380-4AF5-9D02-B75243DF7E6D}" type="datetime8">
              <a:rPr lang="en-US"/>
              <a:t>07/31/26 19: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őzmények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Derive első hallás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Educatio Kiállítá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Derive</a:t>
            </a:r>
            <a:r>
              <a:rPr b="0" lang="hu-HU" sz="32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 az iskolánkb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Derive</a:t>
            </a:r>
            <a:r>
              <a:rPr b="0" lang="hu-HU" sz="3200" spc="-1" strike="noStrike" u="sng">
                <a:solidFill>
                  <a:srgbClr val="99ff66"/>
                </a:solidFill>
                <a:uFillTx/>
                <a:latin typeface="Arial"/>
                <a:hlinkClick r:id="rId4"/>
              </a:rPr>
              <a:t> a </a:t>
            </a:r>
            <a:r>
              <a:rPr b="0" lang="hu-HU" sz="3200" spc="-1" strike="noStrike" u="sng">
                <a:solidFill>
                  <a:srgbClr val="99ff66"/>
                </a:solidFill>
                <a:uFillTx/>
                <a:latin typeface="Arial"/>
                <a:hlinkClick r:id="rId5"/>
              </a:rPr>
              <a:t>Sulinet</a:t>
            </a:r>
            <a:r>
              <a:rPr b="0" lang="hu-HU" sz="3200" spc="-1" strike="noStrike" u="sng">
                <a:solidFill>
                  <a:srgbClr val="99ff66"/>
                </a:solidFill>
                <a:uFillTx/>
                <a:latin typeface="Arial"/>
                <a:hlinkClick r:id="rId6"/>
              </a:rPr>
              <a:t> Matematika rovatáb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B5D010-75F3-4695-BD03-EF690F21C3D9}" type="datetime8">
              <a:rPr lang="en-US"/>
              <a:t>07/31/26 19: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 </a:t>
            </a:r>
            <a:r>
              <a:rPr b="1" lang="en-US" sz="4400" spc="-1" strike="noStrike" u="sng">
                <a:solidFill>
                  <a:srgbClr val="99ff66"/>
                </a:solidFill>
                <a:uFillTx/>
                <a:latin typeface="Arial Black"/>
                <a:hlinkClick r:id="rId1"/>
              </a:rPr>
              <a:t>KöMaL B. 4035. </a:t>
            </a:r>
            <a:r>
              <a:rPr b="1" lang="en-US" sz="4400" spc="-1" strike="noStrike" u="sng">
                <a:solidFill>
                  <a:srgbClr val="ffffb7"/>
                </a:solidFill>
                <a:uFillTx/>
                <a:latin typeface="Arial Black"/>
              </a:rPr>
              <a:t>feladata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Oldjuk meg a 2cos5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+2cos4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+2cos3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+2cos2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+2cos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+1=0 egyenletet valós számok halmazán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Hogyan segíthetjük a tanítványainkat a feladat megoldásához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Derive</a:t>
            </a:r>
            <a:r>
              <a:rPr b="0" lang="hu-HU" sz="40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 munkala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0269C0-844C-47AC-A67B-2B18BE5F6403}" type="datetime8">
              <a:rPr lang="en-US"/>
              <a:t>07/31/26 19: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 </a:t>
            </a:r>
            <a:r>
              <a:rPr b="1" lang="en-US" sz="4400" spc="-1" strike="noStrike" u="sng">
                <a:solidFill>
                  <a:srgbClr val="99ff66"/>
                </a:solidFill>
                <a:uFillTx/>
                <a:latin typeface="Arial Black"/>
                <a:hlinkClick r:id="rId1"/>
              </a:rPr>
              <a:t>KöMaL B. 4057. </a:t>
            </a:r>
            <a:r>
              <a:rPr b="1" lang="en-US" sz="4400" spc="-1" strike="noStrike" u="sng">
                <a:solidFill>
                  <a:srgbClr val="ffffb7"/>
                </a:solidFill>
                <a:uFillTx/>
                <a:latin typeface="Arial Black"/>
              </a:rPr>
              <a:t>feladata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spcAft>
                <a:spcPts val="3251"/>
              </a:spcAft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ff"/>
                </a:solidFill>
                <a:latin typeface="Arial"/>
              </a:rPr>
              <a:t>Oldjuk meg az </a:t>
            </a:r>
            <a:r>
              <a:rPr b="0" i="1" lang="hu-HU" sz="4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hu-HU" sz="40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hu-HU" sz="4000" spc="-1" strike="noStrike">
                <a:solidFill>
                  <a:srgbClr val="ffffff"/>
                </a:solidFill>
                <a:latin typeface="Arial"/>
              </a:rPr>
              <a:t>-6</a:t>
            </a:r>
            <a:r>
              <a:rPr b="0" i="1" lang="hu-HU" sz="4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hu-HU" sz="4000" spc="-1" strike="noStrike">
                <a:solidFill>
                  <a:srgbClr val="ffffff"/>
                </a:solidFill>
                <a:latin typeface="Arial"/>
              </a:rPr>
              <a:t>+5=0 egyenletet!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spcAft>
                <a:spcPts val="3251"/>
              </a:spcAft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ff"/>
                </a:solidFill>
                <a:latin typeface="Arial"/>
              </a:rPr>
              <a:t>A megoldást segítő </a:t>
            </a:r>
            <a:r>
              <a:rPr b="0" lang="hu-HU" sz="40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Derive</a:t>
            </a:r>
            <a:r>
              <a:rPr b="0" lang="hu-HU" sz="40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 munkala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0" y="0"/>
                <a:ext cx="76212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7ECAE6-089C-490F-AE42-E82ECF675D24}" type="datetime8">
              <a:rPr lang="en-US"/>
              <a:t>07/31/26 19: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i a határozott integrál?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spcAft>
                <a:spcPts val="9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z emelt szintű érettségi egy fontos fogalmának egy tárgyalási lehetősége a Derive program segítségé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Derive</a:t>
            </a:r>
            <a:r>
              <a:rPr b="0" lang="hu-HU" sz="40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 munkala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75E4F5-CAB1-4298-906F-5F102DE50B90}" type="datetime8">
              <a:rPr lang="en-US"/>
              <a:t>07/31/26 19: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Összetett függvény, inverz függvény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Néhány nevezetes függvénytani fogalom Derive programmal segített  feldolgozási módj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Derive</a:t>
            </a:r>
            <a:r>
              <a:rPr b="0" lang="hu-HU" sz="40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 munkala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9BB6F2-941F-4BF2-B379-17644DAB205A}" type="datetime8">
              <a:rPr lang="en-US"/>
              <a:t>07/31/26 19: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gy várhatóértékes probléma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Egy pénzdarabbal addig dobunk, amíg háromszor egymás után fejet nem dobunk. Várhatóan hányadik dobásra következik ez b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Egy flash animáció: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(http://www.sulinet.hu/tart/fcikk/Kcv/0/19115/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A probléma tárgyalását segítő munkal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A0675F-AB0B-4A9B-B1A0-36F57D08A0EA}" type="datetime8">
              <a:rPr lang="en-US"/>
              <a:t>07/31/26 19: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iperbola, parabola, ellipszis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djuk meg azoknak a pontoknak a halmazát a síkban, melyeknek egy adott ponttól és egy rá nem illeszkedő egyenestől mért távolságaik aránya állandó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Néhány konkrét arányt bemutató </a:t>
            </a:r>
            <a:r>
              <a:rPr b="0" lang="hu-HU" sz="32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Derive</a:t>
            </a:r>
            <a:r>
              <a:rPr b="0" lang="hu-HU" sz="32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 munkal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0000"/>
                </a:solidFill>
                <a:latin typeface="Arial"/>
              </a:rPr>
              <a:t>Ami még szebb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utograph animáci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846BF0-C313-4B06-A2EC-47045167E7FE}" type="datetime8">
              <a:rPr lang="en-US"/>
              <a:t>07/31/26 19: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 </a:t>
            </a:r>
            <a:r>
              <a:rPr b="1" lang="en-US" sz="4400" spc="-1" strike="noStrike" u="sng">
                <a:solidFill>
                  <a:srgbClr val="99ff66"/>
                </a:solidFill>
                <a:uFillTx/>
                <a:latin typeface="Arial Black"/>
                <a:hlinkClick r:id="rId1"/>
              </a:rPr>
              <a:t>KöMaL B. 4001</a:t>
            </a:r>
            <a:r>
              <a:rPr b="1" lang="en-US" sz="4400" spc="-1" strike="noStrike" u="sng">
                <a:solidFill>
                  <a:srgbClr val="ffffb7"/>
                </a:solidFill>
                <a:uFillTx/>
                <a:latin typeface="Arial Black"/>
              </a:rPr>
              <a:t>. feladata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Három barátnő, Xénia, Yvett és Zita egy napon egymástól függetlenül, véletlenszerűen választott időpontban betérnek egy-egy órára a déltől este 8-ig nyitva tartó internetes kávézóba. Mennyi a valószínűsége, hogy mindhárman összefutnak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A problémát szemléltető munkal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Ugyanez Autograph segítségé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3396B2-847B-49CA-857C-819F0923B97D}" type="datetime8">
              <a:rPr lang="en-US"/>
              <a:t>07/31/26 19: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3T08:30:16Z</dcterms:created>
  <dc:creator>diak</dc:creator>
  <dc:description/>
  <dc:language>en-US</dc:language>
  <cp:lastModifiedBy>csiger</cp:lastModifiedBy>
  <dcterms:modified xsi:type="dcterms:W3CDTF">2008-04-24T07:02:52Z</dcterms:modified>
  <cp:revision>32</cp:revision>
  <dc:subject/>
  <dc:title>A Derive program alkalmazási lehetőségei a matematika oktatásában </dc:title>
</cp:coreProperties>
</file>